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E88-2408-4F7B-9302-6D3731BC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37B-D1AE-4515-B697-B63418B6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17F-4A95-4BB9-BA80-9277026A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048-6EAB-479A-80D4-5CABCA31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3E8B-01D7-4C9E-9F9A-4BBBBED3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065C-86B3-418E-BA71-D59DAFB9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9D13-BCB4-4082-B9C4-6DC370C1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F774-4C81-455B-8EF6-542B11A0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7D95-90F5-4096-8F94-AF88B99F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AA9D-55F3-4AF8-9D14-A23614E0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132C-5932-4546-BB4B-F5CDD2E9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BCE-290D-4A30-9923-1F607E59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1E11-3D5C-483B-A964-DDA90C8B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9E98-02B7-4826-8D56-5F89CA5E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6BCE-4EFA-4B68-8426-0778F22C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992C-2C58-4BF7-AA69-D0254EE8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140D-5A78-4000-B0AF-ED1E541F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36A17-F5D2-4706-A4B4-8667EEC1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29B2-BE9B-46C9-BADA-9832BB6D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DEDE-9C88-412E-9595-88EA1A5A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2DB1-429B-4225-BEE2-629DDF46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8477-F204-4E59-842E-2B5556E4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3CB-896C-4841-915B-9E2FC43D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9B35-EEDF-4060-B850-70F1191E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4964-087E-4CA2-9166-C57E2AD6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398B-C7BC-464B-B5B8-73ADEFC6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2C11-8064-4840-B58F-20B02C16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48CB-4165-4D1D-BC28-5C6BD792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81F4-3883-4F1E-9389-0436D75E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B2CB-3A9B-415E-AC22-9269CE53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EC56E-27F7-453B-A483-267F7FD0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747C7-3FB4-4716-A143-9A139FD3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3918-EEFD-481A-8218-FC668814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29C-17B7-4703-877E-FE4738B8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93769-87CE-45D1-8BFA-67CC0EBB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D7E52-CE89-4935-B7B8-8B2BF909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28BD-4997-4D9A-8FD8-22A0B961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D096-93FC-42A4-8668-F5C8789A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3CBF2-0719-4306-8E02-DB277261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49342-D1B2-4FA7-BBB3-0B7EB47E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98B3-225C-46EA-84FE-569D2941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B0FB8-42A7-4A2A-A08A-219E42AE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8ED18-A27A-4CC7-A8CF-00F63F3F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DB4DF-5AC5-4DBD-8E5F-70D9215C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1B3-FC60-4DD3-A7DB-97520AE5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204D2-0A97-4706-8544-D52FA690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5A4B8-FDCE-49C6-88A7-25087817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A8EF-9A98-493C-AD24-B4120FAB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8213A-8D9F-42D1-9178-4E95E98A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C6628-1EEF-4B9E-B1F6-885C11E8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B6E5C-D27D-45A5-AA52-7B5D58FB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907AE-60E9-4292-BFC7-F50F0BA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6D7E-2024-4523-B3B4-83F89850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D34F3-AA73-426D-9903-72B2131D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8CBC-F7EF-40EE-B619-9CF280B3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B72-E116-4EE4-AA44-1B6C2808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0B19E-5795-4CBB-929A-9A3CCB4A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CA10B-4C7D-4641-8CC2-3B25CAED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3BE7-E86F-45E1-B9BF-67844E78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FD437-B623-4C14-897B-4AFE23D3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50A05-5E10-48F4-8DB1-138E405E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7C2F9-ECE9-4C0F-A30A-7CA5847B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04765-080C-4489-B960-7F46EF42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47512-E98B-4F0E-8950-F0A2D0F4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FDF8A-3215-44DF-A780-709B7378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83D62-C1CF-456D-9BB7-1EF5C26A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0A7-9145-468C-90EF-AD3C3C8C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FC6B6-4DCE-4369-8360-D62196D9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1C24-D837-4D2D-BD2C-5CB90209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E3C13-2F28-44A6-9BCD-2F868871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38E7D-C417-4070-A25B-BEF237AF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D246A-C677-417A-96F4-EE1B57B4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64A83-2617-44C4-8761-164D6833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F8B04-7774-41BE-B7C5-9A9B96D5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8B0F5-9B58-4B84-9F5C-96B999FE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C3991-6892-49F3-AD25-6B0FD77C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0D165-32C7-4000-97BA-1E9141B2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739-877C-442D-981F-E2B56B45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CC10F-82D2-486B-9A1A-87339BC9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2A2A5-BBC8-4C30-B173-8B759A7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177FC-3F94-4607-8C93-856193F5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87FBC-0F6D-4187-A907-F8382928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BB239-2ED0-477E-974F-93747A58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133-E363-4196-8F5F-8CBE78E5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1CEA-ACAA-47F5-BE0D-560D67AB3CE1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99A3-C23F-48A3-8018-D9CCAC14F9AB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1487-881B-46AB-A8D3-194387B25DCC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533A-CE71-4D9F-A4DB-5F6DABA63F8A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2D52-F67C-4999-9BE0-13EE495CECD0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0F78-CEEC-4070-BEAC-662DFC49259B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EAD8-4A64-44FE-92E7-468943FF1DC5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3AC9-E423-43F3-A241-84E11FA7EB5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BEA3-3E3C-46D9-963C-002DC2423129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CD5A-F0B2-4A47-90DA-0BC441CF64D7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29BF-AC50-4C90-B3D3-442EC9C99D83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C679-A300-4829-A158-2F1DA0611FDE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8515-30BD-45A3-BFE6-3BBA33CEC65B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091F-F91E-4DF0-A6B5-73CF58ECDBD9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4A_2d.swf" TargetMode="External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4A_2d.swf" TargetMode="External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142920" y="316692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Uni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157560" y="4021200"/>
            <a:ext cx="25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WordArt 4"/>
          <p:cNvSpPr txBox="1"/>
          <p:nvPr/>
        </p:nvSpPr>
        <p:spPr>
          <a:xfrm>
            <a:off x="2049480" y="3249720"/>
            <a:ext cx="651672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DilleniaUPC"/>
              </a:rPr>
              <a:t>Why don't you talk to your parents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DilleniaUPC"/>
              <a:ea typeface="DilleniaUPC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2719440" y="4870440"/>
            <a:ext cx="49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ectionA 1a-2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142920" y="3990960"/>
            <a:ext cx="842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458640" y="290520"/>
            <a:ext cx="8231400" cy="15699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b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isten again. Why doesn't Peter like 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riend's advice? Write the letters (a-e)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 the advice in 2a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58640" y="2097000"/>
          <a:ext cx="8507520" cy="4525920"/>
        </p:xfrm>
        <a:graphic>
          <a:graphicData uri="http://schemas.openxmlformats.org/drawingml/2006/table">
            <a:tbl>
              <a:tblPr/>
              <a:tblGrid>
                <a:gridCol w="8507520"/>
              </a:tblGrid>
              <a:tr h="74628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Advic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779640">
                <a:tc>
                  <a:txBody>
                    <a:bodyPr lIns="90000" rIns="90000" tIns="47160" bIns="47160" anchor="t">
                      <a:noAutofit/>
                    </a:bodyPr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write him a letter.  (  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call him up.    (  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talk to him so that you can say you’re sorry.    (  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go to his house. (  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take him to the ball game. (  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84" name="Text Box 11"/>
          <p:cNvSpPr/>
          <p:nvPr/>
        </p:nvSpPr>
        <p:spPr>
          <a:xfrm>
            <a:off x="1844640" y="273528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1844640" y="50817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1844640" y="566100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1789200" y="335916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778040" y="403704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6634080" y="3025800"/>
            <a:ext cx="693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5815080" y="3457440"/>
            <a:ext cx="8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3732120" y="467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6224760" y="5251320"/>
            <a:ext cx="8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0"/>
          <p:cNvSpPr/>
          <p:nvPr/>
        </p:nvSpPr>
        <p:spPr>
          <a:xfrm>
            <a:off x="7869240" y="5830920"/>
            <a:ext cx="8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U4 Section A 2b.mp3" descr="U4 Section A 2b"/>
          <p:cNvPicPr/>
          <p:nvPr/>
        </p:nvPicPr>
        <p:blipFill>
          <a:blip r:embed="rId1"/>
          <a:stretch/>
        </p:blipFill>
        <p:spPr>
          <a:xfrm>
            <a:off x="7540560" y="143820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56242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2"/>
          <p:cNvSpPr/>
          <p:nvPr/>
        </p:nvSpPr>
        <p:spPr>
          <a:xfrm>
            <a:off x="2593800" y="264960"/>
            <a:ext cx="6330960" cy="1122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ole-play a convers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tween Peter and his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u=3694040158,1854063845&amp;fm=21&amp;gp=0"/>
          <p:cNvPicPr/>
          <p:nvPr/>
        </p:nvPicPr>
        <p:blipFill>
          <a:blip r:embed="rId1"/>
          <a:srcRect l="0" t="0" r="0" b="7439"/>
          <a:stretch/>
        </p:blipFill>
        <p:spPr>
          <a:xfrm>
            <a:off x="1727280" y="3402000"/>
            <a:ext cx="4817880" cy="345600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4"/>
          <p:cNvSpPr/>
          <p:nvPr/>
        </p:nvSpPr>
        <p:spPr>
          <a:xfrm>
            <a:off x="6103800" y="1695600"/>
            <a:ext cx="2819520" cy="17064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hat’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atter,P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35080" y="1695600"/>
            <a:ext cx="4579920" cy="1442880"/>
          </a:xfrm>
          <a:prstGeom prst="wedgeRoundRectCallout">
            <a:avLst>
              <a:gd name="adj1" fmla="val -2180"/>
              <a:gd name="adj2" fmla="val 73250"/>
              <a:gd name="adj3" fmla="val 16667"/>
            </a:avLst>
          </a:prstGeom>
          <a:solidFill>
            <a:srgbClr val="ffff99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had a fight with my b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iend. What should I do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/>
          <p:cNvSpPr/>
          <p:nvPr/>
        </p:nvSpPr>
        <p:spPr>
          <a:xfrm>
            <a:off x="2308320" y="212760"/>
            <a:ext cx="6615000" cy="1174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ake conversations us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formation in 2a and 2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5064120" y="1569960"/>
            <a:ext cx="3666960" cy="1832040"/>
          </a:xfrm>
          <a:prstGeom prst="wedgeRoundRectCallout">
            <a:avLst>
              <a:gd name="adj1" fmla="val 180"/>
              <a:gd name="adj2" fmla="val 93555"/>
              <a:gd name="adj3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ell, you should 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im so that you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y you're sorry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380880" y="1965240"/>
            <a:ext cx="2560680" cy="1251000"/>
          </a:xfrm>
          <a:prstGeom prst="cloudCallout">
            <a:avLst>
              <a:gd name="adj1" fmla="val -3870"/>
              <a:gd name="adj2" fmla="val 90750"/>
            </a:avLst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u=3694040158,1854063845&amp;fm=21&amp;gp=0"/>
          <p:cNvPicPr/>
          <p:nvPr/>
        </p:nvPicPr>
        <p:blipFill>
          <a:blip r:embed="rId1"/>
          <a:srcRect l="0" t="0" r="0" b="7439"/>
          <a:stretch/>
        </p:blipFill>
        <p:spPr>
          <a:xfrm>
            <a:off x="1711440" y="3402000"/>
            <a:ext cx="4819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2187720" y="351000"/>
            <a:ext cx="6491160" cy="1417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d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 u="sng">
                <a:solidFill>
                  <a:srgbClr val="0080ff"/>
                </a:solidFill>
                <a:uFillTx/>
                <a:latin typeface="Arial"/>
                <a:ea typeface="Times New Roman"/>
                <a:hlinkClick r:id="rId1"/>
              </a:rPr>
              <a:t>Role-play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the conver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7734240" y="1768320"/>
            <a:ext cx="1125720" cy="1013040"/>
          </a:xfrm>
          <a:custGeom>
            <a:avLst/>
            <a:gdLst>
              <a:gd name="textAreaLeft" fmla="*/ 65520 w 1125720"/>
              <a:gd name="textAreaRight" fmla="*/ 1060200 w 1125720"/>
              <a:gd name="textAreaTop" fmla="*/ 65520 h 1013040"/>
              <a:gd name="textAreaBottom" fmla="*/ 947520 h 1013040"/>
            </a:gdLst>
            <a:ahLst/>
            <a:rect l="textAreaLeft" t="textAreaTop" r="textAreaRight" b="textAreaBottom"/>
            <a:pathLst>
              <a:path w="24002" h="21600">
                <a:moveTo>
                  <a:pt x="0" y="0"/>
                </a:moveTo>
                <a:lnTo>
                  <a:pt x="24002" y="0"/>
                </a:lnTo>
                <a:lnTo>
                  <a:pt x="24002" y="21600"/>
                </a:lnTo>
                <a:lnTo>
                  <a:pt x="0" y="21600"/>
                </a:lnTo>
                <a:close/>
              </a:path>
              <a:path fill="lightenLess" w="24002" h="21600">
                <a:moveTo>
                  <a:pt x="0" y="0"/>
                </a:moveTo>
                <a:lnTo>
                  <a:pt x="24002" y="0"/>
                </a:lnTo>
                <a:lnTo>
                  <a:pt x="22602" y="1400"/>
                </a:lnTo>
                <a:lnTo>
                  <a:pt x="1400" y="1400"/>
                </a:lnTo>
                <a:close/>
              </a:path>
              <a:path fill="darken" w="24002" h="21600">
                <a:moveTo>
                  <a:pt x="24002" y="0"/>
                </a:moveTo>
                <a:lnTo>
                  <a:pt x="24002" y="21600"/>
                </a:lnTo>
                <a:lnTo>
                  <a:pt x="22602" y="20200"/>
                </a:lnTo>
                <a:lnTo>
                  <a:pt x="22602" y="1400"/>
                </a:lnTo>
                <a:close/>
              </a:path>
              <a:path fill="darkenLess" w="24002" h="21600">
                <a:moveTo>
                  <a:pt x="24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2" y="20200"/>
                </a:lnTo>
                <a:close/>
              </a:path>
              <a:path fill="lighten" w="24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2" h="21600">
                <a:moveTo>
                  <a:pt x="4994" y="7301"/>
                </a:moveTo>
                <a:lnTo>
                  <a:pt x="5908" y="7301"/>
                </a:lnTo>
                <a:lnTo>
                  <a:pt x="6291" y="7667"/>
                </a:lnTo>
                <a:lnTo>
                  <a:pt x="15500" y="7667"/>
                </a:lnTo>
                <a:lnTo>
                  <a:pt x="16057" y="8224"/>
                </a:lnTo>
                <a:lnTo>
                  <a:pt x="16057" y="8772"/>
                </a:lnTo>
                <a:lnTo>
                  <a:pt x="17902" y="8772"/>
                </a:lnTo>
                <a:lnTo>
                  <a:pt x="18268" y="8224"/>
                </a:lnTo>
                <a:lnTo>
                  <a:pt x="19007" y="8224"/>
                </a:lnTo>
                <a:lnTo>
                  <a:pt x="19007" y="13376"/>
                </a:lnTo>
                <a:lnTo>
                  <a:pt x="18268" y="13376"/>
                </a:lnTo>
                <a:lnTo>
                  <a:pt x="17902" y="12828"/>
                </a:lnTo>
                <a:lnTo>
                  <a:pt x="16057" y="12828"/>
                </a:lnTo>
                <a:lnTo>
                  <a:pt x="16057" y="14107"/>
                </a:lnTo>
                <a:lnTo>
                  <a:pt x="6474" y="14107"/>
                </a:lnTo>
                <a:lnTo>
                  <a:pt x="6474" y="9877"/>
                </a:lnTo>
                <a:lnTo>
                  <a:pt x="6291" y="9877"/>
                </a:lnTo>
                <a:lnTo>
                  <a:pt x="5908" y="10243"/>
                </a:lnTo>
                <a:lnTo>
                  <a:pt x="4994" y="10243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457200" y="1971720"/>
            <a:ext cx="7661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av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look sad, Kim. What's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i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, I found my sister looking through my things yesterday. She took some of my new magazines and C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av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mm... that's not very nice. Did she give them back to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im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es, but I'm still angry with her. What should I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187720" y="351000"/>
            <a:ext cx="6491160" cy="1417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d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Role-</a:t>
            </a:r>
            <a:r>
              <a:rPr b="0" lang="en-US" sz="3200" spc="-1" strike="noStrike" u="sng">
                <a:solidFill>
                  <a:srgbClr val="0080ff"/>
                </a:solidFill>
                <a:uFillTx/>
                <a:latin typeface="Arial"/>
                <a:ea typeface="Times New Roman"/>
                <a:hlinkClick r:id="rId1"/>
              </a:rPr>
              <a:t>play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the conver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57200" y="2082960"/>
            <a:ext cx="76611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av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ll, I guess you could tell her to say sorry. But why don't you forget about it so that you can be friends again? Although she's wrong, it's not a big d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i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're right. Thanks for your ad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av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oblem. Hope things work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3"/>
          <p:cNvSpPr/>
          <p:nvPr/>
        </p:nvSpPr>
        <p:spPr>
          <a:xfrm>
            <a:off x="349200" y="1249200"/>
            <a:ext cx="8794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. My parents don’t allow me to hang out with my frie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a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动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意为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允许；准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”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侧重听从，不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通常用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allow sb. to do sth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短语中， 意为 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允许某人做某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”；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被动形式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sb be allowed to do sth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意为 “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某人被允许做某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”；还可用于短语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allow doing sth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意为“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允许做某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”；作“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允许进入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”解时其后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直接接表示方向的副词或介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You are no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allowed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smoke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这里不许吸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hey don’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a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smo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他们不允许吸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3"/>
          <p:cNvSpPr/>
          <p:nvPr/>
        </p:nvSpPr>
        <p:spPr>
          <a:xfrm>
            <a:off x="4010040" y="58680"/>
            <a:ext cx="4549680" cy="1190520"/>
          </a:xfrm>
          <a:prstGeom prst="horizontalScroll">
            <a:avLst>
              <a:gd name="adj" fmla="val 12500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1297080" y="376200"/>
            <a:ext cx="73738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hang ou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动词短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挂出；闲逛；垂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It's very dangerous to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hang ou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of the window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把身子探出车外是非常危险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We often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hang ou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with our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们经常同朋友一起去闲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My sister often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ang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in the biggest shopping mall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姐姐经常在最大的那家百货商场闲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774720" y="457200"/>
            <a:ext cx="77328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 guess you could tell her to say so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ues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zh-CN" sz="3200" spc="-1" strike="noStrike">
                <a:solidFill>
                  <a:srgbClr val="0080ff"/>
                </a:solidFill>
                <a:latin typeface="Times New Roman"/>
                <a:ea typeface="Times New Roman"/>
              </a:rPr>
              <a:t>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意为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猜测；估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't really know, I'm just </a:t>
            </a:r>
            <a:r>
              <a:rPr b="1" lang="zh-CN" sz="3200" spc="-1" strike="noStrike">
                <a:solidFill>
                  <a:srgbClr val="0080ff"/>
                </a:solidFill>
                <a:latin typeface="Times New Roman"/>
                <a:ea typeface="Times New Roman"/>
              </a:rPr>
              <a:t>guess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真的不知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仅仅是猜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uld only </a:t>
            </a:r>
            <a:r>
              <a:rPr b="1" lang="zh-CN" sz="3200" spc="-1" strike="noStrike">
                <a:solidFill>
                  <a:srgbClr val="0080ff"/>
                </a:solidFill>
                <a:latin typeface="Times New Roman"/>
                <a:ea typeface="Times New Roman"/>
              </a:rPr>
              <a:t>gues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her moti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们只能猜测她的动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620640" y="771480"/>
            <a:ext cx="79264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tel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动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告诉；吩咐；讲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”， 常用短语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tell sb s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tell sth to s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意为“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告诉某人某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”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tell sb to do s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意为“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告诉某人去做某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He wanted to 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tel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the news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the world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他要把这件事告诉每一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I always </a:t>
            </a: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Arial"/>
              </a:rPr>
              <a:t>tel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my daughter a story before she goes to slee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女儿睡觉之前，我总讲故事给她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655560" y="728640"/>
            <a:ext cx="807876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3. Althouth she’s wrong,it’s not a big de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although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houg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even thoug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尽管，虽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”，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连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用来引导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让步状语从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Althoug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he is poor,he is still very happ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= He is poor, but he is still very happ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。虽然很穷，但他还是很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1352520" y="1457280"/>
            <a:ext cx="74674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o you have any problems in your daily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ow do you solve them? Give some advi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矩形 6" descr=""/>
          <p:cNvPicPr/>
          <p:nvPr/>
        </p:nvPicPr>
        <p:blipFill>
          <a:blip r:embed="rId1"/>
          <a:stretch/>
        </p:blipFill>
        <p:spPr>
          <a:xfrm>
            <a:off x="3133800" y="272880"/>
            <a:ext cx="3381480" cy="8589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"/>
          <p:cNvSpPr/>
          <p:nvPr/>
        </p:nvSpPr>
        <p:spPr>
          <a:xfrm>
            <a:off x="515880" y="1251000"/>
            <a:ext cx="831708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t’s said that smoking won’t be _________ in indoor public places or workplaces in China soon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. attacked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B. admired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. attracted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D. allow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______ the girl is only mine, she takes care of her brother and cooks meals ever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. If      B. Because      C. Although        D.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"/>
          <p:cNvSpPr/>
          <p:nvPr/>
        </p:nvSpPr>
        <p:spPr>
          <a:xfrm>
            <a:off x="1667880" y="1943280"/>
            <a:ext cx="491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7"/>
          <p:cNvSpPr/>
          <p:nvPr/>
        </p:nvSpPr>
        <p:spPr>
          <a:xfrm>
            <a:off x="1173240" y="4538520"/>
            <a:ext cx="491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u=3983912369,2963134663&amp;fm=23&amp;gp=0"/>
          <p:cNvPicPr/>
          <p:nvPr/>
        </p:nvPicPr>
        <p:blipFill>
          <a:blip r:embed="rId1"/>
          <a:stretch/>
        </p:blipFill>
        <p:spPr>
          <a:xfrm>
            <a:off x="407880" y="411120"/>
            <a:ext cx="3834000" cy="33228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4522680" y="1000080"/>
            <a:ext cx="3679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ave to study too m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74600" y="3971880"/>
            <a:ext cx="38577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o many after-school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5" descr="u=627697106,4220197216&amp;fm=21&amp;gp=0"/>
          <p:cNvPicPr/>
          <p:nvPr/>
        </p:nvPicPr>
        <p:blipFill>
          <a:blip r:embed="rId2"/>
          <a:srcRect l="0" t="0" r="0" b="9947"/>
          <a:stretch/>
        </p:blipFill>
        <p:spPr>
          <a:xfrm>
            <a:off x="4241880" y="3422520"/>
            <a:ext cx="476244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5146560" y="1000080"/>
            <a:ext cx="3679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ang out with my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289160" y="4029120"/>
            <a:ext cx="3857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ght with my best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u=4212864531,2154147752&amp;fm=23&amp;gp=0"/>
          <p:cNvPicPr/>
          <p:nvPr/>
        </p:nvPicPr>
        <p:blipFill>
          <a:blip r:embed="rId1"/>
          <a:stretch/>
        </p:blipFill>
        <p:spPr>
          <a:xfrm>
            <a:off x="174600" y="603360"/>
            <a:ext cx="4971960" cy="3611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u=3286420276,1403688711&amp;fm=23&amp;gp=0"/>
          <p:cNvPicPr/>
          <p:nvPr/>
        </p:nvPicPr>
        <p:blipFill>
          <a:blip r:embed="rId2"/>
          <a:stretch/>
        </p:blipFill>
        <p:spPr>
          <a:xfrm>
            <a:off x="5327640" y="3000240"/>
            <a:ext cx="37353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/>
          <p:cNvSpPr/>
          <p:nvPr/>
        </p:nvSpPr>
        <p:spPr>
          <a:xfrm>
            <a:off x="1501920" y="260280"/>
            <a:ext cx="7441920" cy="1725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1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Look at these problems. Do you th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y are serious or not? Wri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appropriate box.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7763040" y="2333520"/>
            <a:ext cx="1180800" cy="1166760"/>
          </a:xfrm>
          <a:custGeom>
            <a:avLst/>
            <a:gdLst>
              <a:gd name="textAreaLeft" fmla="*/ 75600 w 1180800"/>
              <a:gd name="textAreaRight" fmla="*/ 1105200 w 1180800"/>
              <a:gd name="textAreaTop" fmla="*/ 75600 h 1166760"/>
              <a:gd name="textAreaBottom" fmla="*/ 1091160 h 1166760"/>
            </a:gdLst>
            <a:ahLst/>
            <a:rect l="textAreaLeft" t="textAreaTop" r="textAreaRight" b="textAreaBottom"/>
            <a:pathLst>
              <a:path w="21860" h="21600">
                <a:moveTo>
                  <a:pt x="0" y="0"/>
                </a:moveTo>
                <a:lnTo>
                  <a:pt x="21860" y="0"/>
                </a:lnTo>
                <a:lnTo>
                  <a:pt x="21860" y="21600"/>
                </a:lnTo>
                <a:lnTo>
                  <a:pt x="0" y="21600"/>
                </a:lnTo>
                <a:close/>
              </a:path>
              <a:path fill="lightenLess" w="21860" h="21600">
                <a:moveTo>
                  <a:pt x="0" y="0"/>
                </a:moveTo>
                <a:lnTo>
                  <a:pt x="21860" y="0"/>
                </a:lnTo>
                <a:lnTo>
                  <a:pt x="20460" y="1400"/>
                </a:lnTo>
                <a:lnTo>
                  <a:pt x="1400" y="1400"/>
                </a:lnTo>
                <a:close/>
              </a:path>
              <a:path fill="darken" w="21860" h="21600">
                <a:moveTo>
                  <a:pt x="21860" y="0"/>
                </a:moveTo>
                <a:lnTo>
                  <a:pt x="21860" y="21600"/>
                </a:lnTo>
                <a:lnTo>
                  <a:pt x="20460" y="20200"/>
                </a:lnTo>
                <a:lnTo>
                  <a:pt x="20460" y="1400"/>
                </a:lnTo>
                <a:close/>
              </a:path>
              <a:path fill="darkenLess" w="21860" h="21600">
                <a:moveTo>
                  <a:pt x="21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60" y="20200"/>
                </a:lnTo>
                <a:close/>
              </a:path>
              <a:path fill="lighten" w="21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60" h="21600">
                <a:moveTo>
                  <a:pt x="3923" y="7301"/>
                </a:moveTo>
                <a:lnTo>
                  <a:pt x="4837" y="7301"/>
                </a:lnTo>
                <a:lnTo>
                  <a:pt x="5220" y="7667"/>
                </a:lnTo>
                <a:lnTo>
                  <a:pt x="14429" y="7667"/>
                </a:lnTo>
                <a:lnTo>
                  <a:pt x="14986" y="8224"/>
                </a:lnTo>
                <a:lnTo>
                  <a:pt x="14986" y="8772"/>
                </a:lnTo>
                <a:lnTo>
                  <a:pt x="16831" y="8772"/>
                </a:lnTo>
                <a:lnTo>
                  <a:pt x="17197" y="8224"/>
                </a:lnTo>
                <a:lnTo>
                  <a:pt x="17936" y="8224"/>
                </a:lnTo>
                <a:lnTo>
                  <a:pt x="17936" y="13376"/>
                </a:lnTo>
                <a:lnTo>
                  <a:pt x="17197" y="13376"/>
                </a:lnTo>
                <a:lnTo>
                  <a:pt x="16831" y="12828"/>
                </a:lnTo>
                <a:lnTo>
                  <a:pt x="14986" y="12828"/>
                </a:lnTo>
                <a:lnTo>
                  <a:pt x="14986" y="14107"/>
                </a:lnTo>
                <a:lnTo>
                  <a:pt x="5403" y="14107"/>
                </a:lnTo>
                <a:lnTo>
                  <a:pt x="5403" y="9877"/>
                </a:lnTo>
                <a:lnTo>
                  <a:pt x="5220" y="9877"/>
                </a:lnTo>
                <a:lnTo>
                  <a:pt x="4837" y="10243"/>
                </a:lnTo>
                <a:lnTo>
                  <a:pt x="3923" y="1024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615960" y="2333520"/>
            <a:ext cx="7147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I have to study too much so I don't get enough 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 have too much homework so I don't have any free time to do things I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My parents don't allow me to hang out with m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 have too many after-school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I got into a fight with my best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2"/>
          <p:cNvSpPr/>
          <p:nvPr/>
        </p:nvSpPr>
        <p:spPr>
          <a:xfrm>
            <a:off x="1192320" y="0"/>
            <a:ext cx="1261800" cy="1165320"/>
          </a:xfrm>
          <a:custGeom>
            <a:avLst/>
            <a:gdLst>
              <a:gd name="textAreaLeft" fmla="*/ 288000 w 1261800"/>
              <a:gd name="textAreaRight" fmla="*/ 973800 w 1261800"/>
              <a:gd name="textAreaTop" fmla="*/ 266040 h 1165320"/>
              <a:gd name="textAreaBottom" fmla="*/ 899280 h 11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165320"/>
          <a:ext cx="8229600" cy="539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364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eri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19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54" name="Text Box 20"/>
          <p:cNvSpPr/>
          <p:nvPr/>
        </p:nvSpPr>
        <p:spPr>
          <a:xfrm>
            <a:off x="457200" y="2638440"/>
            <a:ext cx="3843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. I have to study too much so I don’t get enough 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4638600" y="2638440"/>
            <a:ext cx="40482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. I have too much homework so I don’t have any free time to do things I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457200" y="4189320"/>
            <a:ext cx="384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. I have too many after-school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3"/>
          <p:cNvSpPr/>
          <p:nvPr/>
        </p:nvSpPr>
        <p:spPr>
          <a:xfrm>
            <a:off x="4638600" y="4662360"/>
            <a:ext cx="3843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3. My parents don’t allow me to hang out with m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4"/>
          <p:cNvSpPr/>
          <p:nvPr/>
        </p:nvSpPr>
        <p:spPr>
          <a:xfrm>
            <a:off x="457200" y="5446800"/>
            <a:ext cx="384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5. I got into a fight with my best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457200" y="1413000"/>
          <a:ext cx="8229600" cy="5451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23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eri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19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60" name="Text Box 19"/>
          <p:cNvSpPr/>
          <p:nvPr/>
        </p:nvSpPr>
        <p:spPr>
          <a:xfrm>
            <a:off x="457200" y="2638440"/>
            <a:ext cx="3843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. I have to study too much so I don’t get enough 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4638600" y="2638440"/>
            <a:ext cx="40482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. I have too much homework so I don’t have any free time to do things I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457200" y="4189320"/>
            <a:ext cx="384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. I have too many after-school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4638600" y="4662360"/>
            <a:ext cx="3843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3. My parents don’t allow me to hang out with m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457200" y="5446800"/>
            <a:ext cx="384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5. I got into a fight with my best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4"/>
          <p:cNvSpPr/>
          <p:nvPr/>
        </p:nvSpPr>
        <p:spPr>
          <a:xfrm>
            <a:off x="1227240" y="201600"/>
            <a:ext cx="7254720" cy="1189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1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Listen and circle th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ear in 1a.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5"/>
          <p:cNvSpPr/>
          <p:nvPr/>
        </p:nvSpPr>
        <p:spPr>
          <a:xfrm>
            <a:off x="293760" y="4264200"/>
            <a:ext cx="581040" cy="583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6"/>
          <p:cNvSpPr/>
          <p:nvPr/>
        </p:nvSpPr>
        <p:spPr>
          <a:xfrm>
            <a:off x="457200" y="2638440"/>
            <a:ext cx="581040" cy="582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U4 Section A 1b.mp3" descr="U4 Section A 1b"/>
          <p:cNvPicPr/>
          <p:nvPr/>
        </p:nvPicPr>
        <p:blipFill>
          <a:blip r:embed="rId1"/>
          <a:stretch/>
        </p:blipFill>
        <p:spPr>
          <a:xfrm>
            <a:off x="7883640" y="797040"/>
            <a:ext cx="80316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6556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/>
          <p:cNvSpPr/>
          <p:nvPr/>
        </p:nvSpPr>
        <p:spPr>
          <a:xfrm>
            <a:off x="1413000" y="228600"/>
            <a:ext cx="7534080" cy="12477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Look at the problems you hear in 1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make conver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3" descr="u=2417153747,3223574158&amp;fm=23&amp;gp=0"/>
          <p:cNvPicPr/>
          <p:nvPr/>
        </p:nvPicPr>
        <p:blipFill>
          <a:blip r:embed="rId1"/>
          <a:srcRect l="0" t="12031" r="0" b="12875"/>
          <a:stretch/>
        </p:blipFill>
        <p:spPr>
          <a:xfrm>
            <a:off x="2496960" y="3263760"/>
            <a:ext cx="4683240" cy="351792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4"/>
          <p:cNvSpPr/>
          <p:nvPr/>
        </p:nvSpPr>
        <p:spPr>
          <a:xfrm>
            <a:off x="841320" y="1611360"/>
            <a:ext cx="3311640" cy="1417680"/>
          </a:xfrm>
          <a:prstGeom prst="wedgeEllipseCallout">
            <a:avLst>
              <a:gd name="adj1" fmla="val 33912"/>
              <a:gd name="adj2" fmla="val 71046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's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4718160" y="1611360"/>
            <a:ext cx="4228920" cy="1887480"/>
          </a:xfrm>
          <a:prstGeom prst="wedgeRoundRectCallout">
            <a:avLst>
              <a:gd name="adj1" fmla="val 1638"/>
              <a:gd name="adj2" fmla="val 92967"/>
              <a:gd name="adj3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'm really tired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 studied until mid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st night.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/>
          <p:cNvSpPr/>
          <p:nvPr/>
        </p:nvSpPr>
        <p:spPr>
          <a:xfrm>
            <a:off x="176040" y="3762360"/>
            <a:ext cx="2320920" cy="2332080"/>
          </a:xfrm>
          <a:prstGeom prst="wedgeRoundRectCallout">
            <a:avLst>
              <a:gd name="adj1" fmla="val 75828"/>
              <a:gd name="adj2" fmla="val -3486"/>
              <a:gd name="adj3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n'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go to sl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lie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ing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3"/>
          <p:cNvSpPr/>
          <p:nvPr/>
        </p:nvSpPr>
        <p:spPr>
          <a:xfrm>
            <a:off x="617400" y="343080"/>
            <a:ext cx="8526600" cy="12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sten. Peter's friend is giving him adv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l in the blanks with could or shou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4628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Advic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779640">
                <a:tc>
                  <a:txBody>
                    <a:bodyPr lIns="90000" rIns="90000" tIns="47160" bIns="47160" anchor="t">
                      <a:noAutofit/>
                    </a:bodyPr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write him a letter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call him 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 talk to him so that you can say you’re sorr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go to his hou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20000"/>
                        </a:lnSpc>
                        <a:spcBef>
                          <a:spcPts val="700"/>
                        </a:spcBef>
                        <a:buClr>
                          <a:srgbClr val="4584d3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You _______take him to the ball ga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76" name="Text Box 12"/>
          <p:cNvSpPr/>
          <p:nvPr/>
        </p:nvSpPr>
        <p:spPr>
          <a:xfrm>
            <a:off x="1844640" y="234648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1778040" y="355428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1766880" y="292572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1844640" y="463860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1844640" y="521820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U4 Section A 2a.mp3" descr="U4 Section A 2a"/>
          <p:cNvPicPr/>
          <p:nvPr/>
        </p:nvPicPr>
        <p:blipFill>
          <a:blip r:embed="rId1"/>
          <a:stretch/>
        </p:blipFill>
        <p:spPr>
          <a:xfrm>
            <a:off x="7429680" y="148608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3787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2:30:5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